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601-43B0-4669-B0D0-EF8AADF9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directions, and 6-8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with question and 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1 = all aca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“social” dim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“to le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“to dece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and solicit more – not necessarily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to b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to borrow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+ 8 i= play with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n first cli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ult academic list = same as before = britis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sarily parallel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 and add to social list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spi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predictable = li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ll in more academic and soc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= all = emphasize WHY WHO/TO or FOR WHOM/ and W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How = step by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H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“step by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“by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DD3-27AC-4F1A-8399-15C1B7A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CB0-3230-4FB7-A6DE-28E7B54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AAC-3B74-47AB-8E74-14346C04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48A-74A8-4574-A1D1-8775AC39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1EA-3980-4B8E-AD37-43C57069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098-5011-4C20-BD87-3994A82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263-5559-46C4-83A3-DB0EB93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EE9-1131-4569-B9BE-86B264A9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9DE-4489-44B0-9279-5AD7154D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3A9-5520-479F-AAFC-4793FB01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566-57A7-4F54-AA78-4AF89CD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845-8A11-4483-9B23-05931F2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359-C402-44E5-9A8A-D972C97F2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45520"/>
            <a:ext cx="7543800" cy="3168000"/>
            <a:chOff x="152280" y="245520"/>
            <a:chExt cx="7543800" cy="3168000"/>
          </a:xfrm>
        </p:grpSpPr>
        <p:sp>
          <p:nvSpPr>
            <p:cNvPr id="49" name=""/>
            <p:cNvSpPr/>
            <p:nvPr/>
          </p:nvSpPr>
          <p:spPr>
            <a:xfrm>
              <a:off x="152280" y="245520"/>
              <a:ext cx="7543800" cy="31680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5040" y="337680"/>
              <a:ext cx="372888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de 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5640" y="711000"/>
              <a:ext cx="6156360" cy="26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Your 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Monotype Corsiva"/>
                  <a:ea typeface="Times New Roman"/>
                </a:rPr>
                <a:t>?         ?         ?</a:t>
              </a: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I teach __</a:t>
              </a: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?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___  grade [and __</a:t>
              </a:r>
              <a:r>
                <a:rPr b="1" lang="en-US" sz="1800" spc="-1" strike="noStrike">
                  <a:solidFill>
                    <a:srgbClr val="ff0000"/>
                  </a:solidFill>
                  <a:latin typeface="Monotype Corsiva"/>
                  <a:ea typeface="Times New Roman"/>
                </a:rPr>
                <a:t>?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___  grade] [R/P] {I/M] [Both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For me, the best thing about teaching within the R/P   I/M framework 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3657600"/>
            <a:ext cx="7848720" cy="3048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73392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167360"/>
            <a:ext cx="6400800" cy="23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For me, the worst thing about teaching within the R/P   I/M framework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60" y="-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60" y="-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160" y="3024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A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r else, why bother?]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AS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90920" y="130320"/>
          <a:ext cx="3047760" cy="67276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CRI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TER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AG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ERSU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people spe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522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52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52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685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52578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1219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5334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7913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OR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96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90920" y="130320"/>
          <a:ext cx="6248160" cy="6727680"/>
        </p:xfrm>
        <a:graphic>
          <a:graphicData uri="http://schemas.openxmlformats.org/drawingml/2006/table">
            <a:tbl>
              <a:tblPr/>
              <a:tblGrid>
                <a:gridCol w="312408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V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F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CRI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TER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CH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AG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RE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ERSU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57200" y="83808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1849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05120" y="130320"/>
          <a:ext cx="6781680" cy="578772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GET ADV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E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HE 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ENTERTAIN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FORM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228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o peopl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3581280"/>
            <a:ext cx="2210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905120" y="130320"/>
          <a:ext cx="6781680" cy="663228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GET AD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POL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ENTERTAI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5228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peopl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A PURPO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and this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often includes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o/to wh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7640"/>
            <a:ext cx="4952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5560" cy="1717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30481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essay, speech, poem, article, note, anecdote, story, lesson, painting, etc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800000">
            <a:off x="914400" y="58208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0000">
            <a:off x="1447920" y="5257440"/>
            <a:ext cx="73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step by step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82556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9112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79840" y="552276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867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b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762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1:00:28Z</dcterms:created>
  <dc:creator>PhilipFranklin</dc:creator>
  <dc:description/>
  <dc:language>en-US</dc:language>
  <cp:lastModifiedBy>PhilipFranklin</cp:lastModifiedBy>
  <dcterms:modified xsi:type="dcterms:W3CDTF">2008-02-26T13:17:24Z</dcterms:modified>
  <cp:revision>37</cp:revision>
  <dc:subject/>
  <dc:title>Slide 1</dc:title>
</cp:coreProperties>
</file>